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D10-CE02-4E2F-AA35-C9BE2F58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B08-AFE8-45B3-9289-6661190A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ADB3-0BDC-4402-9CBC-DC8A257F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2258-328A-4FBC-8581-07955690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0C96-3922-4B6B-B1F9-DF6357A7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C8DD-F6AD-40C9-9FC9-C3191285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1A73-0F4D-4DB2-B52B-9650AD00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E763-179F-4F9D-A2F9-4CEBFB98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2D96-562D-42F9-8B38-D5AF6234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53DB-61BF-4F93-AC2D-8C4E6F82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23FE-EFCA-476A-8767-796EAEDB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05E1-0217-48FB-A1F1-8FF63E71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1AA8-A917-41CF-8F9E-B5D04FF2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933B-B8EA-4BA0-9E73-AD64B35E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3E33-6EE3-4712-98AA-4956EF1E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45D3-ED40-4600-B976-360071A3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7A37-A2AD-4A11-8FFA-ADBC2FBB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87A-56DC-4ACB-AE38-08D18C1C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50D-5ED9-4B19-A99B-971D94E8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642D-787A-467F-9D3B-A39B3CE9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AE8-63BC-439E-BC58-44046756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0EDF-2354-405D-B90D-DC9A197C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9B1-09E4-4217-AA15-3DDC046B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E0E-CD49-463B-9B1F-FAB7592F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517A-5E5C-48B9-B442-A7607E0790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4C24-FE7C-433D-81F1-35B2D3536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: Multiplication and Division of Rational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5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ing ration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(x)= f(x) * g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3x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(x)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4x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values would make one of these functions undefi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(x)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3x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4x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(x)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x-5)(x+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+1)(x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(x)= (x-5)(x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h(0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h(1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2x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g(x)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3x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x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(0)g(0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(4)g(4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(x), if h(x)=f(x)g(x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and divide rational expr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and divide two rational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ing Rational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olynomials P, Q, R, and 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neither Q or S equal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 for Multiplying Rational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ach numerator and denominator in completely factored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by any common factors in both the numerator and the denomin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as needed to form the desired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with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* x* x*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 * 5 *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* y *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*x*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ractice with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x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ing Rational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olynomials P, Q, R, and 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for Dividing Rational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 the second rational expression (the divisor) to write the problem as a multiplica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ed as if you are doing multi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with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9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y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*x*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*2*y*y*y*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*2*2*x*x*x*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*3*x*x*y*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ractice with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+4x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x+8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x-18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-6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ing ration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(x)= f(x) *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ing the functions in the same way you multiplied expressions when no value for x is spec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given a value for x, plug it in an solve.  Watch out for values that make either function un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4:32:52Z</dcterms:created>
  <dc:creator>nuhs</dc:creator>
  <dc:description/>
  <dc:language>en-US</dc:language>
  <cp:lastModifiedBy>nuhs</cp:lastModifiedBy>
  <dcterms:modified xsi:type="dcterms:W3CDTF">2007-09-25T19:50:33Z</dcterms:modified>
  <cp:revision>9</cp:revision>
  <dc:subject/>
  <dc:title>Algebra 2A</dc:title>
</cp:coreProperties>
</file>